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F0E-0B5C-4A88-8326-603C07DC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B00-60F7-4F92-B38B-9B10B3FE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E7F-A759-45F6-8638-3A4D6B56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F77-23B2-4628-955A-5C8C5417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EB7-0B1B-4D9C-BB23-47F47302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7DF-6E27-4A7E-87FD-FBCEEA6F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A92-193D-4520-B4DE-51717D80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796-DA2F-4A4E-BC41-F1B869A1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587-460D-457E-93A2-7C727030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E91-3077-4646-B304-2555A6D6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8B4-46BD-4EAB-9F3E-AFB3229A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8ED-AC80-415B-B688-2C5E150E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00ECB-723D-4BD2-8501-D705881E1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47840" y="2160720"/>
            <a:ext cx="5562720" cy="4171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36960" y="1600200"/>
            <a:ext cx="19400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nclusio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to dance to Michael Jack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86080" y="360360"/>
            <a:ext cx="348768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to dance to the Beat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7120" y="360360"/>
            <a:ext cx="70023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20280" y="621792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to d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06440" y="198360"/>
            <a:ext cx="6629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9920" y="6103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line dancing. I like to dance to country roa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7120" y="360360"/>
            <a:ext cx="70023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9920" y="6103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 like to dance to “Who let the dogs out. Who… who… who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81360" y="360360"/>
            <a:ext cx="449568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to break d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03360" y="36036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hip ho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0240" y="360360"/>
            <a:ext cx="35193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rock ‘n roll danc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85760" y="360360"/>
            <a:ext cx="788688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ist and shou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03360" y="36036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to dance to the Wigg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32120" y="360360"/>
            <a:ext cx="61941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9920" y="6103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to dance to with my girl friend Dorothy the dinosau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38600" y="360360"/>
            <a:ext cx="43797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ry Bishop</dc:creator>
  <dc:description/>
  <dc:language>en-US</dc:language>
  <cp:lastModifiedBy>marshallp</cp:lastModifiedBy>
  <dcterms:modified xsi:type="dcterms:W3CDTF">2009-11-09T18:27:05Z</dcterms:modified>
  <cp:revision>2</cp:revision>
  <dc:subject/>
  <dc:title>dancing</dc:title>
</cp:coreProperties>
</file>